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8A6C-8CCE-457A-B440-3E5D6FA6D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8BB4-646A-4084-BD55-F3030D125208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ustomiz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ight each category and change it to a specific categ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question slide and fill in the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ach answer slide and fill in the Jeopardy answer in question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Final Jeopardy is lis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play the game a link back to the Jeopardy board is provided on each answ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6BF-10BC-4369-BFDA-0106D910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EE18-CC20-4396-B9F7-E24F7565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716-B52B-4651-AE99-6BA4A7F0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24B-9088-46B8-A9E5-163D8722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5EB9-2B84-477F-92C6-EBF8B831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71CE-B801-4EA2-BACF-5A360A9D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2499-7361-4C07-B8AD-6C58B32D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AC7D-3EBC-48F8-8D6C-8B64B223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14B80-D966-4C12-B84A-BA1625E8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93DD-558E-4DC5-B4E4-F0BAB98D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D539-033C-49C4-AEF9-B5217BD9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DED-BE0E-4BF4-8AB6-FC12CD76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2091-0B0A-4B26-9AA4-17D6E940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2689-E742-4456-A9D8-99DFA87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2C4D-B2F3-40CD-8C49-05713373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0D5C-498E-4DA0-979F-70E525A7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5EA4-FBFB-4FF9-AB00-C16D9C8B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0A7A-0CEC-407A-A33F-DA079047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AF8D-F981-4170-AF0E-40D836FF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893A-B9FD-41BC-AD27-4CF33C76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74F-0027-4BB6-8D95-74DBB438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4131-EFBC-4AE9-9EF4-11E85DB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323B-8489-42A9-A12A-0C7237DA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42DE-6BCB-4F45-9E4F-C2882773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8F65-4646-455B-83D7-37C969CF0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DBD92-4DA3-471D-BF89-2B242E4E80B3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" Target="slide52.xml"/><Relationship Id="rId29" Type="http://schemas.openxmlformats.org/officeDocument/2006/relationships/image" Target="../media/image2.pn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60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99cc"/>
                </a:solidFill>
                <a:latin typeface="Tahoma"/>
              </a:rPr>
              <a:t>Jeopardy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762120" y="1371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71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4"/>
          <p:cNvSpPr/>
          <p:nvPr/>
        </p:nvSpPr>
        <p:spPr>
          <a:xfrm>
            <a:off x="858960" y="137160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Character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362320" y="13716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Sett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022280" y="13716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Them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723640" y="137160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lot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7027560" y="13716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Potluck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Rectangle 22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Rectangle 24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Rectangle 25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Rectangle 26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9" name="Text Box 34"/>
          <p:cNvSpPr/>
          <p:nvPr/>
        </p:nvSpPr>
        <p:spPr>
          <a:xfrm>
            <a:off x="6786000" y="6019920"/>
            <a:ext cx="1986840" cy="459720"/>
          </a:xfrm>
          <a:prstGeom prst="rect">
            <a:avLst/>
          </a:prstGeom>
          <a:noFill/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28" action="ppaction://hlinksldjump"/>
              </a:rPr>
              <a:t>Final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50" name="MacOS" descr=""/>
          <p:cNvPicPr/>
          <p:nvPr/>
        </p:nvPicPr>
        <p:blipFill>
          <a:blip r:embed="rId29"/>
          <a:stretch/>
        </p:blipFill>
        <p:spPr>
          <a:xfrm>
            <a:off x="7010280" y="609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143000" y="27432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arol, Mr. and Mrs. Tether, Paul, and Mrs. Peacock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14400" y="25909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 are the minor characters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 Please 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911600" y="3168720"/>
            <a:ext cx="43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ast, present, or futur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913400" y="3168720"/>
            <a:ext cx="43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(setting) tim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897560" y="3168720"/>
            <a:ext cx="645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Day, week, month, year, season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913400" y="3168720"/>
            <a:ext cx="43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(setting) tim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917000" y="3168720"/>
            <a:ext cx="50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Real or imaginary locati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914120" y="316872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(setting) plac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915920" y="3168720"/>
            <a:ext cx="488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nside /outsid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ity, State, Country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pecific room or building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914120" y="3168720"/>
            <a:ext cx="450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(setting) plac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004480" y="3124080"/>
            <a:ext cx="416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Usually one charact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918080" y="3168720"/>
            <a:ext cx="510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1950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Rockville, Crain, Chandl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s. Peacock’s house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62120" y="2895480"/>
            <a:ext cx="743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setting (time and place)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, Please 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676520" y="2819520"/>
            <a:ext cx="56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ain __________ the writer conveys to the read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908360" y="316872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messag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915200" y="316872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Lesson about __________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903680" y="3168720"/>
            <a:ext cx="251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life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38080" y="3048120"/>
            <a:ext cx="60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 ___________ about people and their action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906560" y="3168720"/>
            <a:ext cx="294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belief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90720" y="2895480"/>
            <a:ext cx="687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Key to unlocking theme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Did the __________ change in the stor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909440" y="3168720"/>
            <a:ext cx="357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charac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923120" y="3168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/what is the main character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30680" y="2971800"/>
            <a:ext cx="72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NOT __________ directly in the story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906200" y="316872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stated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908720" y="316872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equence of event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904400" y="3168720"/>
            <a:ext cx="26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plot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915560" y="3168720"/>
            <a:ext cx="498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In this part of the plot…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haracters are introduced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etting is described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910160" y="3168720"/>
            <a:ext cx="380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exposi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75520" y="3124080"/>
            <a:ext cx="69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Point of greatest suspense in the plo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907280" y="3168720"/>
            <a:ext cx="31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climax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26280" y="3200400"/>
            <a:ext cx="716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Louisa’s parents do not recognize he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104840" y="3048120"/>
            <a:ext cx="69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climax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, Pleas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95280" y="2971800"/>
            <a:ext cx="66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One or more characters that interact with the main character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955160" y="3168720"/>
            <a:ext cx="44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onclusion of the story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913760" y="316872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the resolution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1906560" y="316872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Silver and Blue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1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905480" y="3168720"/>
            <a:ext cx="56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Miss Christianson’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favorite color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868040" y="3168720"/>
            <a:ext cx="316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anksgiving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Valentine’s Day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1905480" y="3168720"/>
            <a:ext cx="56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are Miss Christianson’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favorite holiday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1926360" y="3168720"/>
            <a:ext cx="600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Age of becoming a Brewers fa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iss Christians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910520" y="316872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5 years old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447920" y="3200400"/>
            <a:ext cx="607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heese Ravioli, Meat Sauce &amp; French Bread Slice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1914120" y="3168720"/>
            <a:ext cx="46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at is for lunch today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2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950760" y="3200400"/>
            <a:ext cx="680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/what are the minor character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62120" y="53341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ff"/>
                </a:solidFill>
                <a:uFillTx/>
                <a:latin typeface="Times New Roman"/>
                <a:hlinkClick r:id="rId1" action="ppaction://hlinksldjump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Question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1893240" y="3168720"/>
            <a:ext cx="330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Mr. Hendrickson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500 Answer from C5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920600" y="3168720"/>
            <a:ext cx="603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 is the principal of SMM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17680" y="449280"/>
            <a:ext cx="85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838080" y="2438280"/>
            <a:ext cx="742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This is the author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, Please 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. She liked to write creepy stories with twist ending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303" name="Picture 7" descr=""/>
          <p:cNvPicPr/>
          <p:nvPr/>
        </p:nvPicPr>
        <p:blipFill>
          <a:blip r:embed="rId1"/>
          <a:stretch/>
        </p:blipFill>
        <p:spPr>
          <a:xfrm>
            <a:off x="7467480" y="5334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17680" y="-372960"/>
            <a:ext cx="8596080" cy="17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l Jeopardy Answ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1531080" y="2766960"/>
            <a:ext cx="570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imes New Roman"/>
              </a:rPr>
              <a:t>Who is Shirley Jackson?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762120" y="28954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Characters include people, animals, and __________ creature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3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910880" y="3168720"/>
            <a:ext cx="671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/what are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imaginary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 creature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Question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886400" y="3168720"/>
            <a:ext cx="27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Louisa Tether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07316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$400 Answer from C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3808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Who is the main character of </a:t>
            </a:r>
            <a:r>
              <a:rPr b="0" i="1" lang="en-US" sz="3600" spc="-1" strike="noStrike">
                <a:solidFill>
                  <a:srgbClr val="f8f8f8"/>
                </a:solidFill>
                <a:latin typeface="Times New Roman"/>
              </a:rPr>
              <a:t>Louisa, Please Come Home</a:t>
            </a:r>
            <a:r>
              <a:rPr b="0" lang="en-US" sz="3600" spc="-1" strike="noStrike">
                <a:solidFill>
                  <a:srgbClr val="f8f8f8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AutoShape 5"/>
          <p:cNvSpPr/>
          <p:nvPr/>
        </p:nvSpPr>
        <p:spPr>
          <a:xfrm>
            <a:off x="609480" y="5257800"/>
            <a:ext cx="2362320" cy="990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62120" y="5334120"/>
            <a:ext cx="167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Back to Jeopardy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23:34:26Z</dcterms:created>
  <dc:creator>Diana Bassi</dc:creator>
  <dc:description/>
  <dc:language>en-US</dc:language>
  <cp:lastModifiedBy>Michelle Christianson</cp:lastModifiedBy>
  <dcterms:modified xsi:type="dcterms:W3CDTF">2011-09-29T00:34:23Z</dcterms:modified>
  <cp:revision>24</cp:revision>
  <dc:subject/>
  <dc:title>Jeopardy</dc:title>
</cp:coreProperties>
</file>